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CBA-C293-4F2A-AC69-202350EE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158-B769-4F7F-A7D7-27D0A8B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3DC-3D23-4A81-97A2-7291D7C3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9C8-34A5-4525-A83E-57C76160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33A-F6D0-4905-B905-4461E819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05C-81C1-42CA-9CBF-9303864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D1B-46CA-4DA4-BD88-8AA72BB7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4FDA-028B-495C-A47F-451042E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A9C7-0B41-4EBC-A59F-9EEDA3AA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9D2-380C-4131-B94E-7F27D1FA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B367-043A-45CE-8F7B-F099EA50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7E4-3909-4B89-8CCC-BACE93C6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209C5-8493-4C8C-B10E-8DEBA64BA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Placeholder 6" descr=""/>
          <p:cNvPicPr/>
          <p:nvPr/>
        </p:nvPicPr>
        <p:blipFill>
          <a:blip r:embed="rId1"/>
          <a:srcRect l="8595" t="0" r="8595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t elle?  Qui est-c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t lui?  Qui est-c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4" descr=""/>
          <p:cNvPicPr/>
          <p:nvPr/>
        </p:nvPicPr>
        <p:blipFill>
          <a:blip r:embed="rId1"/>
          <a:srcRect l="-16657" t="0" r="-16657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lle,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lui? 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eux, ensemble?  Qui est-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Placeholder 4" descr=""/>
          <p:cNvPicPr/>
          <p:nvPr/>
        </p:nvPicPr>
        <p:blipFill>
          <a:blip r:embed="rId1"/>
          <a:srcRect l="0" t="-7057" r="0" b="-705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’on met ic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Placeholder 4" descr=""/>
          <p:cNvPicPr/>
          <p:nvPr/>
        </p:nvPicPr>
        <p:blipFill>
          <a:blip r:embed="rId1"/>
          <a:srcRect l="0" t="-6538" r="0" b="-653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’est plus petite qu’une valis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onc, qu’est-ce que c’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Placeholder 4" descr=""/>
          <p:cNvPicPr/>
          <p:nvPr/>
        </p:nvPicPr>
        <p:blipFill>
          <a:blip r:embed="rId1"/>
          <a:srcRect l="-16658" t="0" r="-1665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 sont des marques de quo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4" descr=""/>
          <p:cNvPicPr/>
          <p:nvPr/>
        </p:nvPicPr>
        <p:blipFill>
          <a:blip r:embed="rId1"/>
          <a:srcRect l="0" t="-2019" r="0" b="-201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ù est la passagèr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lle parle à qui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’elle 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Placeholder 4" descr=""/>
          <p:cNvPicPr/>
          <p:nvPr/>
        </p:nvPicPr>
        <p:blipFill>
          <a:blip r:embed="rId1"/>
          <a:srcRect l="-50000" t="0" r="-50000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ça, 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Placeholder 4" descr=""/>
          <p:cNvPicPr/>
          <p:nvPr/>
        </p:nvPicPr>
        <p:blipFill>
          <a:blip r:embed="rId1"/>
          <a:srcRect l="-29996" t="0" r="-2999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’est quel écran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s vols ont du retard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s vols sont à l’heur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i, on n’arrive pas.  C’est quel écra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Placeholder 4" descr=""/>
          <p:cNvPicPr/>
          <p:nvPr/>
        </p:nvPicPr>
        <p:blipFill>
          <a:blip r:embed="rId1"/>
          <a:srcRect l="0" t="-3927" r="0" b="-3927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e c’est? 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i sont les personnes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’il met dans l’équipe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Placeholder 4" descr=""/>
          <p:cNvPicPr/>
          <p:nvPr/>
        </p:nvPicPr>
        <p:blipFill>
          <a:blip r:embed="rId1"/>
          <a:srcRect l="0" t="-16225" r="0" b="-1622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’avion, que fait-i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t cet avion, que fait-il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 panneau est à la porte d’embarquement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Qu’est-ce qui est #113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Placeholder 4" descr=""/>
          <p:cNvPicPr/>
          <p:nvPr/>
        </p:nvPicPr>
        <p:blipFill>
          <a:blip r:embed="rId1"/>
          <a:srcRect l="-50178" t="0" r="-5017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lle est a la compagnie aérien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quelle heure, le vol, part-i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est à destinations de  quelle vil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’est en provenance de quelle vil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  C’est o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4" descr=""/>
          <p:cNvPicPr/>
          <p:nvPr/>
        </p:nvPicPr>
        <p:blipFill>
          <a:blip r:embed="rId1"/>
          <a:srcRect l="0" t="-6336" r="0" b="-6336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Placeholder 6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Placeholder 6" descr=""/>
          <p:cNvPicPr/>
          <p:nvPr/>
        </p:nvPicPr>
        <p:blipFill>
          <a:blip r:embed="rId1"/>
          <a:srcRect l="0" t="-39122" r="0" b="-3912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Placeholder 4" descr=""/>
          <p:cNvPicPr/>
          <p:nvPr/>
        </p:nvPicPr>
        <p:blipFill>
          <a:blip r:embed="rId1"/>
          <a:srcRect l="66" t="0" r="66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Placeholder 4" descr=""/>
          <p:cNvPicPr/>
          <p:nvPr/>
        </p:nvPicPr>
        <p:blipFill>
          <a:blip r:embed="rId1"/>
          <a:srcRect l="0" t="-5824" r="0" b="-582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’est-ce que c’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5" descr=""/>
          <p:cNvPicPr/>
          <p:nvPr/>
        </p:nvPicPr>
        <p:blipFill>
          <a:blip r:embed="rId1"/>
          <a:srcRect l="-16663" t="0" r="-16663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07:16:09Z</dcterms:created>
  <dc:creator>John Chapman</dc:creator>
  <dc:description/>
  <dc:language>en-US</dc:language>
  <cp:lastModifiedBy>John Chapman</cp:lastModifiedBy>
  <dcterms:modified xsi:type="dcterms:W3CDTF">2011-09-09T08:04:47Z</dcterms:modified>
  <cp:revision>5</cp:revision>
  <dc:subject/>
  <dc:title>Qu’est-ce que c’est?</dc:title>
</cp:coreProperties>
</file>